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2731320"/>
            <a:ext cx="2699280" cy="1351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endCxn id="102" idx="1"/>
          </p:cNvCxnSpPr>
          <p:nvPr/>
        </p:nvCxnSpPr>
        <p:spPr>
          <a:xfrm>
            <a:off x="3313080" y="4080960"/>
            <a:ext cx="2699280" cy="144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9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Diabetes Typ 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resist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Diabetes Typ 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7480" y="549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6640" y="549360"/>
            <a:ext cx="43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400" y="549360"/>
            <a:ext cx="79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glyk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Glukoseproduktion ↑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8:16:18Z</dcterms:modified>
  <cp:revision>331</cp:revision>
  <dc:subject/>
  <dc:title>Vorstellung einer Neuheit</dc:title>
</cp:coreProperties>
</file>